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0FB-79BF-4A1A-8D59-B9810189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6DD-0A7C-447D-93D1-FC643CC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AEF-E19E-46AA-A519-9CA6D6F4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9F8-55B2-4056-A294-BAE0B340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3DC-9694-4228-9D2A-AA93DE0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991-FE01-43DD-930C-F68E1FE5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609-3FE8-443F-B631-74621560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720-5274-4055-929F-5E9DE7A9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978-E9BE-4FCF-BDC2-5A86319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82D-1F76-422B-8371-0F8B307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980-6C6C-42E8-976C-EF872F4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62A-5F0B-4E82-A295-6F7CC3D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22AF-A432-4A50-BC13-84C770C3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6066000" cy="86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s and learning expectations are clear and consistent in instructional pract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 2      3       4      5      6       7      8      9      10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   Standards for learning have been broken down into clear and sequential learning steps to guide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    The curriculum and standards for learning are tightly aligned both vertically (from one grade level to the next) and horizontally (across the grade level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    Teachers effectively collaborate on a regular basis both vertically and horizontally about learning expectations, assessment, instructional practice and student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    Expectations for learning proficiency are clear and consistent in instructional pract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  Teachers make effective use of both formative and summative test data to plan for and to improve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 1      2      3       4      5       6       7      8      9      10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   Teachers follow an appropriate pacing of the curriculum that is aligned to formative and summative assess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    Materials and resources are aligned to learning expectations and are effectively utilized for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    Essential student vocabulary has been defined for each learning expec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  Lesson planning is standards-based and reflects clear learning objectives, congruent learning activities and a form of appropriate evaluation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  Teachers utilize student work products to assess instructional effect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   Instructional grouping practices are flexible and based on specific student learning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28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Instructional Alignment Self-Assessment Ru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8:43:46Z</dcterms:created>
  <dc:creator>Lisa Waring</dc:creator>
  <dc:description/>
  <dc:language>en-US</dc:language>
  <cp:lastModifiedBy>Lisa Waring</cp:lastModifiedBy>
  <dcterms:modified xsi:type="dcterms:W3CDTF">2009-05-31T15:50:56Z</dcterms:modified>
  <cp:revision>12</cp:revision>
  <dc:subject/>
  <dc:title>Slide 1</dc:title>
</cp:coreProperties>
</file>